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58D4-B34D-43E8-8258-6B8CB57DBE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Vitor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t’s essay is itself a marvel of cosmopolitan enlightenment – full of sympathetic references to places and people that he never visi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history of the E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ecret article” not because it is literally secret, but because Kant is suggesting that for sovereigns to acknowledge this publicly would amount to a loss of face. Perhaps no longer applicable today? (A joke by K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morality compatible with politic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ar not an occasion for individual herois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escape the state of nature (which in Kant is a state of war) through a state, ought we not to take the next step and form a worl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that Kant gives are less moral than prac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5A62D-A0E2-4BFB-A745-BA4B43D28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F142-A6B4-41B1-B7EC-6575927D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6BFF9-EDEF-49D5-9FA9-B2A206D97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5996F-4747-4B85-8EBE-B3707F644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07E29-4552-4BD2-A6CD-D7A55F59B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56BD-DE14-47D8-BBB7-5D198EB8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6B0C9-DB75-4E1B-A337-8B2205C0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9CE45-01C8-49EE-8C47-1F37FE2E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9262-AD80-4B0F-8679-DB2D816D6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6D6F-060B-47F2-BB25-8337BACF9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2763-325D-491A-8F12-8150EE3A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D690-9ABF-4CB0-B953-22D4FBC7B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2447-B5DD-45C7-8C03-0F592DCF1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nt and Hege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mopolitan Right as the Right of Hospitalit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it lead to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right of hospita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to visit and trade (not necessarily to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lead to pea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is ultimately incompatible with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nteracts our natural “separating” tendencies (via language, culture, etc.) and creates mutual under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t argues against “conquest” in the name of tra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possib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rit of trade” sooner or later dominates every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moral” motive, but it can be come the basis of peace any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have to assume about nature, and in particular about human nature, to think that perpetual peace is not hope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itself wills peace through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live everywh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live everywhere because of w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because of war and the finitude of the globe we have learned and can learn (we have been compelled to learn or will be compelled to learn) to establish legal relations in all three important respects (civil, international, and cosmopolitan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rd (internal) or war (external) forces men to establish constitutions where their evil inclinations cancel each other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ct that the globe is fully occupied guarantees that each people must form itself as a state to defend itself</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ople wants to work towards peace, dominated by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each people is divided from the others by language and religion, which prevents a world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itself can be a learning mechanism in the process of forming fe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opolitan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irit of trade” counteracts the separating tendencies of nature, though it is not a moral im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that we can believe that nature will do this for us even if we do not follow our du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the guarantee is only a “moral hypothesis”, not a theoretical certainty: we can’t really predict the future, and we are not theoretically entitled to find “purpose” in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petual Peace: Definitive Articl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ivil Constitution of Every State Should Be Republican” (principle of civil righ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aw of Nations Shall be Founded on a Federation of Free States” (principle of international righ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aw of World Citizenship Shall Be Limited to Conditions of Universal Hospitality” (principle of cosmopolitan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ret articl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inions of philosophers on the conditions of the possibility of public peace shall be consulted by those states armed for 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xim of Publicit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xims that we adopt to guide our political conduct must be capable of being made publ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imply for the possibility of establishing republican constit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mplication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must work through reform; revolution is not right or just in any circum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mises are to be kept even when they adversely affect the welfare of the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emptive attacks are not right or j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y as the unfolding of “spirit” (Geist) in human cultural 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hilosophy as the retrospective description of the rationality of this unfo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orms of communit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amily: the realm of unconditional l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ivil society: the realm of self-interested individual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tate: the ethical real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9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mil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eings are members of families unconditionally; membership does not depend on free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ty requires the possibility of </a:t>
            </a:r>
            <a:r>
              <a:rPr b="0" i="1" lang="en-US" sz="3200" spc="-1" strike="noStrike">
                <a:solidFill>
                  <a:srgbClr val="000000"/>
                </a:solidFill>
                <a:latin typeface="Arial"/>
              </a:rPr>
              <a:t>ne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family cannot provide a context of recognition necessary for a person to become a free indiv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Societ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civil society, human beings appear as possessors of individual ri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s possible individuality through the mutual recognition that conflict and opposition bring; membership depends on free activity, and can be neg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eads to “social contract” theories of the political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mbodies the shared values of a people in a rational form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eives of human beings as parts of a larger whole, lifting them beyond their self-interest and giving content to “empty” universal rules of mo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ed to, but not identical with, the </a:t>
            </a:r>
            <a:r>
              <a:rPr b="0" i="1" lang="en-NZ" sz="3200" spc="-1" strike="noStrike">
                <a:solidFill>
                  <a:srgbClr val="000000"/>
                </a:solidFill>
                <a:latin typeface="Arial"/>
              </a:rPr>
              <a:t>volk</a:t>
            </a:r>
            <a:r>
              <a:rPr b="0" lang="en-NZ" sz="3200" spc="-1" strike="noStrike">
                <a:solidFill>
                  <a:srgbClr val="000000"/>
                </a:solidFill>
                <a:latin typeface="Arial"/>
              </a:rPr>
              <a:t> or nation as a cultural ent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tate as an ethical community</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posed of classes with a specific purp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onarch: represents the “unity” and “individuality” of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ilitary: sacrifices itself for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ivil servants: embody the “universality” of the values of the state in their concern for the rule of la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ourgeois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 the nation-stat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elf-conscious form of the “spirit” as a purposely cultivated cultural life in political for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gel makes no assumption that there must be one state per nation, howe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nation-state a distinct manifestation of spirit and so a form of right: each state is sovereign with respect to every oth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ke individuals, it requires recognition by other states in order to attain this self-consciousn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cognition demands plurality and 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a republican constitution  possibl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oblem of organizing a state, however hard it may seem, can be solved even for a race of devils, if only they are 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s Critique of Ka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federation of states distinct from a world superstate depends always on the contingent agreement of states, who as sovereign individuals can always determine that they have a right not to agre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dividuality implies the possibility of ne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gel’s critique of Ka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is not entirely bad: there is a rational purpose to war in history that is not purely instrumental (e.g., as the means to universal pe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r and the stat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results from the concern of each state for its own welfare and recog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enhances shared values – the unity of the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fts people out of their concern with material possessions characteristic of civil society: promotes civic virtue (as “selfles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hances the unity of the state which is likely to fragment by prolonged pe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imits on wa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r should be limited by the fact of mutual recognition: it ought to come to an end in a way that preserves the possibility of pea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ostility in modern war should be abstract, not individual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r is a conflict between states, and hence militaries as the class of people who have the function of warmaking in the state and embody its cou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et war can always devolve into a war of survival; this is necessary for war to serve its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s on war</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reatment of soldiers, etc. depends merely on customs, but these customs embody valid conceptions of right in a historical time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modern times war is limited in the European context through common custom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s on war</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is not to be </a:t>
            </a:r>
            <a:r>
              <a:rPr b="0" i="1" lang="en-NZ" sz="3200" spc="-1" strike="noStrike">
                <a:solidFill>
                  <a:srgbClr val="000000"/>
                </a:solidFill>
                <a:latin typeface="Arial"/>
              </a:rPr>
              <a:t>justified</a:t>
            </a:r>
            <a:r>
              <a:rPr b="0" lang="en-NZ" sz="3200" spc="-1" strike="noStrike">
                <a:solidFill>
                  <a:srgbClr val="000000"/>
                </a:solidFill>
                <a:latin typeface="Arial"/>
              </a:rPr>
              <a:t> with reference to its general salutary effects in any particular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justification of any particular war will always have to do with the specific “welfare” of a state, but not with the abstract preservation of a state’s un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me problem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gel predicts that modern warfare will be more “rational” because more abstract and less individu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individuality” or “sovereignty” of the state is in tension with the idea that war must, and can, be limi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idea of a historical unfolding of the spirit leading to the ethical state seems to lead to perpetual peace anyway (“The End of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 constitu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human nature is “depraved” we can create constitutions that have a peaceful tendency, because evil inclinations tend to cancel each other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deration of free stat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ederation of fre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it promot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federation of free state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a world state or a super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ncerned only with regulating international disputes among its members</a:t>
            </a:r>
            <a:endParaRPr b="0" lang="en-US" sz="2800" spc="-1" strike="noStrike">
              <a:solidFill>
                <a:srgbClr val="000000"/>
              </a:solidFill>
              <a:latin typeface="Arial"/>
            </a:endParaRPr>
          </a:p>
        </p:txBody>
      </p:sp>
      <p:pic>
        <p:nvPicPr>
          <p:cNvPr id="60" name="" descr=""/>
          <p:cNvPicPr/>
          <p:nvPr/>
        </p:nvPicPr>
        <p:blipFill>
          <a:blip r:embed="rId1"/>
          <a:stretch/>
        </p:blipFill>
        <p:spPr>
          <a:xfrm>
            <a:off x="4648320" y="2505240"/>
            <a:ext cx="4038480" cy="2716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a world sta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ce in a world state would be accomplished at the cost of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separates us through language and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eacefu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ederation of </a:t>
            </a:r>
            <a:r>
              <a:rPr b="0" i="1" lang="en-US" sz="3200" spc="-1" strike="noStrike">
                <a:solidFill>
                  <a:srgbClr val="000000"/>
                </a:solidFill>
                <a:latin typeface="Arial"/>
              </a:rPr>
              <a:t>free states</a:t>
            </a:r>
            <a:r>
              <a:rPr b="0" lang="en-US" sz="3200" spc="-1" strike="noStrike">
                <a:solidFill>
                  <a:srgbClr val="000000"/>
                </a:solidFill>
                <a:latin typeface="Arial"/>
              </a:rPr>
              <a:t>, i.e., republican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states would be tied together by relations which make war much more cos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possibl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werful free people may serve as the nucleus of a federation, which might then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everal regional federations might grow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22:41:33Z</dcterms:created>
  <dc:creator>Full Name</dc:creator>
  <dc:description/>
  <dc:language>en-US</dc:language>
  <cp:lastModifiedBy>Full Name</cp:lastModifiedBy>
  <dcterms:modified xsi:type="dcterms:W3CDTF">2008-09-25T20:53:59Z</dcterms:modified>
  <cp:revision>4</cp:revision>
  <dc:subject/>
  <dc:title>Slide 1</dc:title>
</cp:coreProperties>
</file>